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78F0-0A15-4BA5-AF12-BADAE46DC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8DFF-DC9F-4B3E-81F7-A86DE028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4E18-5E74-434D-877B-39266CE3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5E66-D37E-48F5-B909-F8BD16A7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E7E7-F1E6-46C7-9273-0487C4E7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0899-DC9D-43BC-AC52-CC0EC9DB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87A7-D02D-4AD7-8161-37C316D5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4960-762A-437A-BF6D-F6519AE7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64FF-EBD4-4F70-AC54-08C3E617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7F76-D47C-47B1-B455-D762C42B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3320-BFBA-4E78-8CFC-D9A547B6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F8EB-0648-4DC7-91D4-7CFB4DBF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6246-D9E4-4D48-A7A7-10646656A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rural.gc.ca/newsletter/images/quebec.gif&amp;imgrefurl=http://www.rural.gc.ca/newsletter/ed1image/ed1imag2_e.phtml&amp;h=311&amp;w=403&amp;sz=9&amp;hl=en&amp;start=14&amp;tbnid=zfK9rLjXMSn6oM:&amp;tbnh=96&amp;tbnw=124&amp;prev=/images%3Fq%3Dmaps%2Bof%2Bquebec%26svnum%3D10%26hl%3Den%26lr%3D%26sa%3D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askerville Old Face"/>
              </a:rPr>
              <a:t>Mon Pay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Gilles Vigne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3079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aucun expression da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t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son pensiat etre le coeur de l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hanson, cet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ion l’etai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Je pense que Gill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gneaul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it que bien que Quebec est un lieu dans une carte, il y a u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 for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t unique, un culture qui e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rte e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depen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09480" y="609480"/>
            <a:ext cx="7972560" cy="39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"/>
              </a:rPr>
              <a:t>“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"/>
              </a:rPr>
              <a:t>Mon pays cen’est pas un pays, c’est l’hiver”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"/>
              <a:ea typeface="comic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l est necesiare que vous compreniez que neige soit un grand piece de vie dans Queb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’il y a un chose que Quebecois aiment plus que la neige, il doit leurs grands environm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560" y="5409720"/>
            <a:ext cx="830556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it-il que les Quebeciose aient fierte dans leurs patrimoine et independ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829800" cy="7372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505320" y="23623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s cette chanson aussi dit: Est-il possible que on puisse plaisir a le temps et environment dans tranquill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00600" y="-3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La chambre d’amis sera telle Qu’on veindra des autres sais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 maison c’est votre mais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tre mes quarte murs de glac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3733920" cy="4647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 est bon que les Quebecois aient respect pour bonhomie et partage parce-que murs de glace serainet tres  froid pour une person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A prepare le feu, la plac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Pour les humains de l’horiz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Et les humains sont ma rac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02:50:07Z</dcterms:created>
  <dc:creator>spencer</dc:creator>
  <dc:description/>
  <dc:language>en-US</dc:language>
  <cp:lastModifiedBy>Toni Theisen</cp:lastModifiedBy>
  <dcterms:modified xsi:type="dcterms:W3CDTF">2007-01-12T02:04:08Z</dcterms:modified>
  <cp:revision>6</cp:revision>
  <dc:subject/>
  <dc:title>Mon Pays</dc:title>
</cp:coreProperties>
</file>